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9748-1DAC-4D84-8358-DD6FB09F2C2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1305-9CA5-42F5-ABE1-43A1042CAE7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72E6-C407-41D8-B4D4-CADAF7AF815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55BA-7F43-4B0C-AF4E-D29E15AAA67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41EA-8BB8-4A7F-8D33-DA6EA3C23CB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B344-007C-4954-8681-E1CFD73DB77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6C08-A835-4A52-8E27-3D980FB0C44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B392-F6E1-4CD1-93D1-8AA1BA1BF84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02AA-FC4F-4060-A48C-2D806C2A31F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9850-DA98-465B-B637-59486F22971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1E4B-8C7E-4DEA-A4F5-EE2C095531C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20E8-12DD-4A0C-894C-E73129CAB91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F77B-2DCA-4A67-9C4E-A0C3775CF49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1C6E-D431-4186-89BA-E949969ED4F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7B38-AA97-4C3F-9E97-7B3838264D0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3307-ECAB-405D-AD8C-D5954818D65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6E28-64E5-4814-AD97-CD83CA6F922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E5C8-313E-481F-984B-788FADFC1A0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D6DB-11D3-45C6-AFDC-D4DFF97DC1F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AD4E-C07A-469D-9950-54129F6C0E1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7964-7C2A-4089-BA72-88ED2CFA437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0969-7D0F-412C-A3C7-ACE3420AE69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B4FB-2AE7-4246-AD42-61C9FCFA23F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3A3E-0BD4-490A-BCE6-C7C072DC738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D334-D769-4C49-833B-24B7AEF59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B443-2A46-4F9A-99CB-E22C7B53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31A7-3B11-48F9-9B5A-43F2BA1C3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6A6A-AD5D-46C2-BF5C-910C03CAE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777E5-5FE3-4C46-AFD7-2E0153C48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6E35-046B-45DE-AF8C-45985546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6C75-9CB1-4899-B03F-5AD8C839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F611-CEDD-4A26-8ADE-9F4C3956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81855-1775-4202-BFCA-8F10B4BF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4304-05EB-480B-9422-85A97FA3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A31F-529B-401B-A5AD-EE4F15FF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DB60-B579-4ADD-B221-5BA2EDE9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288FF-13A4-45E8-82EC-2B7CC938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C5A6-53A9-4428-94B9-2735AF46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66ED-C9AF-428F-A2EB-62B1DC7F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DB70-1233-4622-AB78-2327D50C9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A8766-4658-4985-8264-10D177F09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9B35-C258-4A68-A2FC-881B1F34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C9F1-8427-466E-A46C-A2FB8413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AE25-A578-4124-B4B1-5163BD79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8564-F0C3-4B9B-9249-01BD4C54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1FA0-7D20-4035-B2C7-57E70131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D3AD-FC2F-48C5-B879-1EFD312D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7BC2-3CD2-4591-84C4-CB54061C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Rectangle 3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" name="Picture 4" descr="CITBANND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b4f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b4f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b4f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b4f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2DEA-B8FE-4756-9244-570C97D541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Freeform 3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53" name="Picture 5" descr="CITBANND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6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" name="Group 7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Freeform 8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7" name="Group 9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Oval 10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4f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" name="Oval 11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4f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" name="Oval 12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4f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" name="Oval 13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4f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7964-1517-4212-A4CB-D7ED7C1BD3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rançais 3 – Unité 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çon A – Bon appéti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Qu</a:t>
            </a:r>
            <a:r>
              <a:rPr b="0" i="1" lang="ja-JP" sz="32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st-ce qui coûte…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#8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ahoma"/>
              </a:rPr>
              <a:t>Qu’est-ce qui coûte 1,44</a:t>
            </a:r>
            <a:r>
              <a:rPr b="0" lang="fr-FR" sz="6600" spc="-1" strike="noStrike">
                <a:solidFill>
                  <a:srgbClr val="000000"/>
                </a:solidFill>
                <a:latin typeface="Tahoma"/>
                <a:ea typeface="Tahoma"/>
              </a:rPr>
              <a:t>€?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ahoma"/>
              </a:rPr>
              <a:t>les pommes golden 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#9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ahoma"/>
              </a:rPr>
              <a:t>Qu’est-ce qui coûte 0,75</a:t>
            </a:r>
            <a:r>
              <a:rPr b="0" lang="fr-FR" sz="6600" spc="-1" strike="noStrike">
                <a:solidFill>
                  <a:srgbClr val="000000"/>
                </a:solidFill>
                <a:latin typeface="Tahoma"/>
                <a:ea typeface="Tahoma"/>
              </a:rPr>
              <a:t>€?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ahoma"/>
              </a:rPr>
              <a:t>les tomates 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Question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ahoma"/>
              </a:rPr>
              <a:t>Comment est-ce qu’on écrit les prix en français?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ahoma"/>
              </a:rPr>
              <a:t>ex. 1,56 </a:t>
            </a:r>
            <a:r>
              <a:rPr b="0" lang="fr-FR" sz="6000" spc="-1" strike="noStrike">
                <a:solidFill>
                  <a:srgbClr val="000000"/>
                </a:solidFill>
                <a:latin typeface="Tahoma"/>
                <a:ea typeface="Tahoma"/>
              </a:rPr>
              <a:t>€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Question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ahoma"/>
              </a:rPr>
              <a:t>Quelles quantités est-ce qu’on utilise pour vendre ces fruits et légumes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ahoma"/>
              </a:rPr>
              <a:t>en kilogramme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Question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ahoma"/>
              </a:rPr>
              <a:t>Que veut dire le mot « sachet »?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ahoma"/>
              </a:rPr>
              <a:t>bag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Note Culturell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ahoma"/>
              </a:rPr>
              <a:t>Dans les pays francophones, on utilise le systèm métrique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Tahoma"/>
              </a:rPr>
              <a:t>le kilogramme (weight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Tahoma"/>
              </a:rPr>
              <a:t>le litre</a:t>
            </a:r>
            <a:r>
              <a:rPr b="0" lang="fr-FR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Tahoma"/>
              </a:rPr>
              <a:t>(liquid volume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ahoma"/>
              </a:rPr>
              <a:t>un kilo = 2 livres (pounds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ahoma"/>
              </a:rPr>
              <a:t>1 livre = 500 gramm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Pratiquons!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ahoma"/>
                <a:ea typeface="Tahoma"/>
              </a:rPr>
              <a:t>Changez les poids suivants des kilos aux livres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#1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ahoma"/>
                <a:ea typeface="Tahoma"/>
              </a:rPr>
              <a:t>3 kilos = ________ livre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ahoma"/>
                <a:ea typeface="Tahoma"/>
              </a:rPr>
              <a:t>6 livre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ahoma"/>
                <a:ea typeface="Tahoma"/>
              </a:rPr>
              <a:t>4,5 kilos = ________ livre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ahoma"/>
                <a:ea typeface="Tahoma"/>
              </a:rPr>
              <a:t>9 livre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#3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ahoma"/>
                <a:ea typeface="Tahoma"/>
              </a:rPr>
              <a:t>12 kilos = ________ livre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ahoma"/>
                <a:ea typeface="Tahoma"/>
              </a:rPr>
              <a:t>24 livre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Instruct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Sortez les tableaux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Utilisant la publicité de E. Leclerc, écrivez le fruit et le légume qui coûte le montant donné.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#4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ahoma"/>
                <a:ea typeface="Tahoma"/>
              </a:rPr>
              <a:t>30 livres = _______ kilo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ahoma"/>
                <a:ea typeface="Tahoma"/>
              </a:rPr>
              <a:t>15 kilo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#5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ahoma"/>
                <a:ea typeface="Tahoma"/>
              </a:rPr>
              <a:t>15 livres = _______ kilo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ahoma"/>
                <a:ea typeface="Tahoma"/>
              </a:rPr>
              <a:t>7,5 kilo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#6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ahoma"/>
                <a:ea typeface="Tahoma"/>
              </a:rPr>
              <a:t>5,5 livres = _______ kilo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ahoma"/>
                <a:ea typeface="Tahoma"/>
              </a:rPr>
              <a:t>2,75 kilo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#6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ahoma"/>
                <a:ea typeface="Tahoma"/>
              </a:rPr>
              <a:t>23 livres = _______ gramme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ahoma"/>
                <a:ea typeface="Tahoma"/>
              </a:rPr>
              <a:t>11.500 gramme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#1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ahoma"/>
              </a:rPr>
              <a:t>Qu’est-ce qui coûte 0,90</a:t>
            </a:r>
            <a:r>
              <a:rPr b="0" lang="fr-FR" sz="6600" spc="-1" strike="noStrike">
                <a:solidFill>
                  <a:srgbClr val="000000"/>
                </a:solidFill>
                <a:latin typeface="Tahoma"/>
                <a:ea typeface="Tahoma"/>
              </a:rPr>
              <a:t>€?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ahoma"/>
              </a:rPr>
              <a:t>les bananes 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ahoma"/>
              </a:rPr>
              <a:t>Qu’est-ce qui coûte 1,50</a:t>
            </a:r>
            <a:r>
              <a:rPr b="0" lang="fr-FR" sz="6600" spc="-1" strike="noStrike">
                <a:solidFill>
                  <a:srgbClr val="000000"/>
                </a:solidFill>
                <a:latin typeface="Tahoma"/>
                <a:ea typeface="Tahoma"/>
              </a:rPr>
              <a:t>€?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ahoma"/>
              </a:rPr>
              <a:t>les oranges 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#3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ahoma"/>
              </a:rPr>
              <a:t>Qu’est-ce qui coûte 6,65</a:t>
            </a:r>
            <a:r>
              <a:rPr b="0" lang="fr-FR" sz="6600" spc="-1" strike="noStrike">
                <a:solidFill>
                  <a:srgbClr val="000000"/>
                </a:solidFill>
                <a:latin typeface="Tahoma"/>
                <a:ea typeface="Tahoma"/>
              </a:rPr>
              <a:t>€?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ahoma"/>
              </a:rPr>
              <a:t>les ananas 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#4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ahoma"/>
              </a:rPr>
              <a:t>Qu’est-ce qui coûte 3,26</a:t>
            </a:r>
            <a:r>
              <a:rPr b="0" lang="fr-FR" sz="6600" spc="-1" strike="noStrike">
                <a:solidFill>
                  <a:srgbClr val="000000"/>
                </a:solidFill>
                <a:latin typeface="Tahoma"/>
                <a:ea typeface="Tahoma"/>
              </a:rPr>
              <a:t>€?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ahoma"/>
              </a:rPr>
              <a:t>les choux-fleurs 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#5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ahoma"/>
              </a:rPr>
              <a:t>Qu’est-ce qui coûte 2,30</a:t>
            </a:r>
            <a:r>
              <a:rPr b="0" lang="fr-FR" sz="6600" spc="-1" strike="noStrike">
                <a:solidFill>
                  <a:srgbClr val="000000"/>
                </a:solidFill>
                <a:latin typeface="Tahoma"/>
                <a:ea typeface="Tahoma"/>
              </a:rPr>
              <a:t>€?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ahoma"/>
              </a:rPr>
              <a:t>les carottes 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#6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ahoma"/>
              </a:rPr>
              <a:t>Qu’est-ce qui coûte 2,87</a:t>
            </a:r>
            <a:r>
              <a:rPr b="0" lang="fr-FR" sz="6600" spc="-1" strike="noStrike">
                <a:solidFill>
                  <a:srgbClr val="000000"/>
                </a:solidFill>
                <a:latin typeface="Tahoma"/>
                <a:ea typeface="Tahoma"/>
              </a:rPr>
              <a:t>€?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ahoma"/>
              </a:rPr>
              <a:t>les raisins 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#7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ahoma"/>
              </a:rPr>
              <a:t>Qu’est-ce qui coûte 1,05</a:t>
            </a:r>
            <a:r>
              <a:rPr b="0" lang="fr-FR" sz="6600" spc="-1" strike="noStrike">
                <a:solidFill>
                  <a:srgbClr val="000000"/>
                </a:solidFill>
                <a:latin typeface="Tahoma"/>
                <a:ea typeface="Tahoma"/>
              </a:rPr>
              <a:t>€?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ahoma"/>
              </a:rPr>
              <a:t>les endives 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Edouard Smith</cp:lastModifiedBy>
  <dcterms:modified xsi:type="dcterms:W3CDTF">2013-11-26T11:46:01Z</dcterms:modified>
  <cp:revision>88</cp:revision>
  <dc:subject/>
  <dc:title>Allez, viens! – Level 2</dc:title>
</cp:coreProperties>
</file>